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0.png" ContentType="image/png"/>
  <Override PartName="/ppt/media/image5.wmf" ContentType="image/x-wmf"/>
  <Override PartName="/ppt/media/image9.png" ContentType="image/png"/>
  <Override PartName="/ppt/media/image17.wmf" ContentType="image/x-wmf"/>
  <Override PartName="/ppt/media/image13.png" ContentType="image/png"/>
  <Override PartName="/ppt/media/image19.png" ContentType="image/png"/>
  <Override PartName="/ppt/media/image18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5.wmf" ContentType="image/x-wmf"/>
  <Override PartName="/ppt/media/image7.png" ContentType="image/png"/>
  <Override PartName="/ppt/media/image12.png" ContentType="image/png"/>
  <Override PartName="/ppt/media/image8.png" ContentType="image/png"/>
  <Override PartName="/ppt/media/image1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C7A0-92EE-4E57-AF16-4E65ED119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4F64-5FC7-4EDF-A999-61920A013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B67A-04D1-4C7D-B613-03D22C2B9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D386-C94B-433E-B305-1B08A8183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28B6-F3DD-4F4F-A4EE-3E9DB3B44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3795-0EA3-492F-85B2-3113BFF62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7BC6-3550-4B60-B3B9-B3A26BBCC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C1BF-281B-45F7-823C-408874F8D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79EC-E46B-41AA-A8B5-46323784E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7CFC-0250-41EF-8C71-E9623197A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03B2-D7D0-4118-9A46-5F3AA68B6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F7BD-E08B-4027-B748-B656466C2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lick to edit the title text format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3A659-7C0F-4782-B7D6-12EC25DF76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6248520"/>
            <a:ext cx="662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1992–2005 by Deitel &amp; Associates, Inc. and Pearson Education Inc. All Rights Reserved</a:t>
            </a:r>
            <a:r>
              <a:rPr b="0" lang="en-US" sz="1200" spc="-1" strike="noStrike">
                <a:solidFill>
                  <a:srgbClr val="000000"/>
                </a:solidFill>
                <a:latin typeface="AvantGarde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0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utorial 11 –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undraise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Application: Introducing Scope and Function Prototypes</a:t>
            </a:r>
            <a:endParaRPr b="0" lang="en-US" sz="36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1600200"/>
            <a:ext cx="8229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AvantGarde"/>
              </a:rPr>
              <a:t>Outline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11.1 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Test-Driving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undraiser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 Application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11.2 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Constructing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undraiser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 Application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11.3 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Function Prototypes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11.4 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Wrap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1.2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onstruct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Fundraiser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455840" y="2305080"/>
            <a:ext cx="6230880" cy="31147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409680" y="1447920"/>
            <a:ext cx="640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1.6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ing a local variable in th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undrais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pplic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304920" y="1905120"/>
            <a:ext cx="2209680" cy="1218960"/>
            <a:chOff x="304920" y="1905120"/>
            <a:chExt cx="2209680" cy="1218960"/>
          </a:xfrm>
        </p:grpSpPr>
        <p:sp>
          <p:nvSpPr>
            <p:cNvPr id="76" name=""/>
            <p:cNvSpPr/>
            <p:nvPr/>
          </p:nvSpPr>
          <p:spPr>
            <a:xfrm>
              <a:off x="304920" y="1905120"/>
              <a:ext cx="22096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finition of a local variable is the beginning of the variable’s scop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33520" y="2743200"/>
              <a:ext cx="18288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2286000" y="5181120"/>
            <a:ext cx="2819520" cy="885960"/>
            <a:chOff x="2286000" y="5181120"/>
            <a:chExt cx="2819520" cy="885960"/>
          </a:xfrm>
        </p:grpSpPr>
        <p:sp>
          <p:nvSpPr>
            <p:cNvPr id="79" name=""/>
            <p:cNvSpPr/>
            <p:nvPr/>
          </p:nvSpPr>
          <p:spPr>
            <a:xfrm>
              <a:off x="2666880" y="5486400"/>
              <a:ext cx="24386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ight brace ends the scope of a local variab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 flipV="1">
              <a:off x="2286000" y="5181120"/>
              <a:ext cx="38088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2" dur="1" fill="hold"/>
                                  <p:tgtEl>
                                    <p:spTgt spid="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1.2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onstruct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Fundraiser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455840" y="2790720"/>
            <a:ext cx="6230880" cy="21430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09320" y="1447920"/>
            <a:ext cx="711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1.7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ing a second local variable in th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undrais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pplic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3733560" y="4114800"/>
            <a:ext cx="4343760" cy="1571400"/>
            <a:chOff x="3733560" y="4114800"/>
            <a:chExt cx="4343760" cy="1571400"/>
          </a:xfrm>
        </p:grpSpPr>
        <p:sp>
          <p:nvSpPr>
            <p:cNvPr id="85" name=""/>
            <p:cNvSpPr/>
            <p:nvPr/>
          </p:nvSpPr>
          <p:spPr>
            <a:xfrm>
              <a:off x="4876920" y="5105520"/>
              <a:ext cx="32004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finition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netDona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s the beginning of the variable’s scop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 flipV="1">
              <a:off x="3733560" y="4114800"/>
              <a:ext cx="198108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1066680" y="4419360"/>
            <a:ext cx="2210040" cy="1647720"/>
            <a:chOff x="1066680" y="4419360"/>
            <a:chExt cx="2210040" cy="1647720"/>
          </a:xfrm>
        </p:grpSpPr>
        <p:sp>
          <p:nvSpPr>
            <p:cNvPr id="88" name=""/>
            <p:cNvSpPr/>
            <p:nvPr/>
          </p:nvSpPr>
          <p:spPr>
            <a:xfrm>
              <a:off x="1066680" y="5486400"/>
              <a:ext cx="22100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ight brace end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netDona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’s scop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1600200" y="4419360"/>
              <a:ext cx="83808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6" dur="1" fill="hold"/>
                                  <p:tgtEl>
                                    <p:spTgt spid="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1.3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Function Prototypes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 proto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tains the function’s return type, name and parameter li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llows the compiler to validate function call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rgument coercion occurs when arguments do not match the types specified in the prototy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 prototype is not necessary if a function is defined before it is called (the header acts as prototyp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riting the function prototype is “declaring” the function; writing the function body is “defining” the fun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unction signature is the function name and parameter li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1.3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Function Prototype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455840" y="2633760"/>
            <a:ext cx="6230880" cy="24573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418320" y="1461960"/>
            <a:ext cx="824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1.8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 of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onatedAmou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nverted to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o perform the calcul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4876560" y="4419360"/>
            <a:ext cx="3810240" cy="1571400"/>
            <a:chOff x="4876560" y="4419360"/>
            <a:chExt cx="3810240" cy="1571400"/>
          </a:xfrm>
        </p:grpSpPr>
        <p:sp>
          <p:nvSpPr>
            <p:cNvPr id="96" name=""/>
            <p:cNvSpPr/>
            <p:nvPr/>
          </p:nvSpPr>
          <p:spPr>
            <a:xfrm>
              <a:off x="5791320" y="5410080"/>
              <a:ext cx="28954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Value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donatedAmou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mplicitly converted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flipV="1">
              <a:off x="4876560" y="4419360"/>
              <a:ext cx="99036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5" dur="1" fill="hold"/>
                                  <p:tgtEl>
                                    <p:spTgt spid="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1.3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Function Prototype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598840" y="1882800"/>
            <a:ext cx="6240240" cy="161928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 prototype err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getting the semicolon after a function prototype is a syntax err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voking a function before the function prototype has been declared or the function has been defined is a syntax err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17960" y="1461960"/>
            <a:ext cx="778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1.9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claring a function prototype for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culateDona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unc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1523880" y="2742840"/>
            <a:ext cx="2743200" cy="1176120"/>
            <a:chOff x="1523880" y="2742840"/>
            <a:chExt cx="2743200" cy="1176120"/>
          </a:xfrm>
        </p:grpSpPr>
        <p:sp>
          <p:nvSpPr>
            <p:cNvPr id="103" name=""/>
            <p:cNvSpPr/>
            <p:nvPr/>
          </p:nvSpPr>
          <p:spPr>
            <a:xfrm>
              <a:off x="1523880" y="3581640"/>
              <a:ext cx="27432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claring a function prototyp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flipV="1">
              <a:off x="1905120" y="2742840"/>
              <a:ext cx="144756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64" dur="1" fill="hold"/>
                                  <p:tgtEl>
                                    <p:spTgt spid="1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1.3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Function Prototype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450800" y="2957400"/>
            <a:ext cx="6240600" cy="18097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413640" y="1447920"/>
            <a:ext cx="805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1.10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playing the donation amount after operating expenses are deduct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5333760" y="4495320"/>
            <a:ext cx="2972160" cy="1343160"/>
            <a:chOff x="5333760" y="4495320"/>
            <a:chExt cx="2972160" cy="1343160"/>
          </a:xfrm>
        </p:grpSpPr>
        <p:sp>
          <p:nvSpPr>
            <p:cNvPr id="109" name=""/>
            <p:cNvSpPr/>
            <p:nvPr/>
          </p:nvSpPr>
          <p:spPr>
            <a:xfrm>
              <a:off x="5486400" y="5257800"/>
              <a:ext cx="28195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isplaying the donation amount after expenses are deducte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 flipV="1">
              <a:off x="5333760" y="4495320"/>
              <a:ext cx="53316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73" dur="1" fill="hold"/>
                                  <p:tgtEl>
                                    <p:spTgt spid="1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1.3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Function Prototype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446120" y="2952720"/>
            <a:ext cx="6249960" cy="18194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412920" y="1447920"/>
            <a:ext cx="691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1.11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dating and displaying the total amount raised for charit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380880" y="4266720"/>
            <a:ext cx="2514600" cy="1343160"/>
            <a:chOff x="380880" y="4266720"/>
            <a:chExt cx="2514600" cy="1343160"/>
          </a:xfrm>
        </p:grpSpPr>
        <p:sp>
          <p:nvSpPr>
            <p:cNvPr id="115" name=""/>
            <p:cNvSpPr/>
            <p:nvPr/>
          </p:nvSpPr>
          <p:spPr>
            <a:xfrm>
              <a:off x="380880" y="5029200"/>
              <a:ext cx="25146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isplaying the total amount raised for charit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914400" y="4266720"/>
              <a:ext cx="167652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533520" y="2057400"/>
            <a:ext cx="2590560" cy="1676520"/>
            <a:chOff x="533520" y="2057400"/>
            <a:chExt cx="2590560" cy="1676520"/>
          </a:xfrm>
        </p:grpSpPr>
        <p:sp>
          <p:nvSpPr>
            <p:cNvPr id="118" name=""/>
            <p:cNvSpPr/>
            <p:nvPr/>
          </p:nvSpPr>
          <p:spPr>
            <a:xfrm>
              <a:off x="533520" y="2057400"/>
              <a:ext cx="259056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pdating the global variab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990720" y="2438280"/>
              <a:ext cx="1600200" cy="129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87" dur="1" fill="hold"/>
                                  <p:tgtEl>
                                    <p:spTgt spid="1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1.3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Function Prototype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455840" y="2967120"/>
            <a:ext cx="6230880" cy="179064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415800" y="1447920"/>
            <a:ext cx="529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1.12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mpting the user for the next don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685800" y="3962160"/>
            <a:ext cx="2438280" cy="1571400"/>
            <a:chOff x="685800" y="3962160"/>
            <a:chExt cx="2438280" cy="1571400"/>
          </a:xfrm>
        </p:grpSpPr>
        <p:sp>
          <p:nvSpPr>
            <p:cNvPr id="124" name=""/>
            <p:cNvSpPr/>
            <p:nvPr/>
          </p:nvSpPr>
          <p:spPr>
            <a:xfrm>
              <a:off x="685800" y="4952880"/>
              <a:ext cx="24382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rompting the user for and inputting the next don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685800" y="3962160"/>
              <a:ext cx="190512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96" dur="1" fill="hold"/>
                                  <p:tgtEl>
                                    <p:spTgt spid="1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1.3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Function Prototype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766880" y="3281400"/>
            <a:ext cx="5610240" cy="11620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410040" y="1447920"/>
            <a:ext cx="479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1.13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unning the completed applic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"/>
          <p:cNvGraphicFramePr/>
          <p:nvPr/>
        </p:nvGraphicFramePr>
        <p:xfrm>
          <a:off x="0" y="0"/>
          <a:ext cx="6856560" cy="4506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450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7010280" y="91440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undraiser.cpp (1 of 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523520" y="4038480"/>
            <a:ext cx="3048480" cy="1814760"/>
            <a:chOff x="1523520" y="4038480"/>
            <a:chExt cx="3048480" cy="1814760"/>
          </a:xfrm>
        </p:grpSpPr>
        <p:sp>
          <p:nvSpPr>
            <p:cNvPr id="133" name=""/>
            <p:cNvSpPr/>
            <p:nvPr/>
          </p:nvSpPr>
          <p:spPr>
            <a:xfrm>
              <a:off x="2362320" y="5029200"/>
              <a:ext cx="22096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finition of a local variable is the beginning of the variable’s scop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 flipV="1">
              <a:off x="1523520" y="4038480"/>
              <a:ext cx="83844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3124080" y="1905120"/>
            <a:ext cx="5029200" cy="337320"/>
            <a:chOff x="3124080" y="1905120"/>
            <a:chExt cx="5029200" cy="337320"/>
          </a:xfrm>
        </p:grpSpPr>
        <p:sp>
          <p:nvSpPr>
            <p:cNvPr id="136" name=""/>
            <p:cNvSpPr/>
            <p:nvPr/>
          </p:nvSpPr>
          <p:spPr>
            <a:xfrm>
              <a:off x="5943600" y="1905120"/>
              <a:ext cx="22096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fine a global variab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3124080" y="2133720"/>
              <a:ext cx="281952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2361960" y="2819160"/>
            <a:ext cx="5943960" cy="870840"/>
            <a:chOff x="2361960" y="2819160"/>
            <a:chExt cx="5943960" cy="870840"/>
          </a:xfrm>
        </p:grpSpPr>
        <p:sp>
          <p:nvSpPr>
            <p:cNvPr id="139" name=""/>
            <p:cNvSpPr/>
            <p:nvPr/>
          </p:nvSpPr>
          <p:spPr>
            <a:xfrm>
              <a:off x="5715000" y="3352680"/>
              <a:ext cx="259092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clare a function prototyp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 flipV="1">
              <a:off x="2361960" y="2819160"/>
              <a:ext cx="335268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15" dur="1" fill="hold"/>
                                  <p:tgtEl>
                                    <p:spTgt spid="1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Objectives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this tutorial, you will learn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reate variables that can be used in all the application’s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argument coercion to implicitly convert the value of an argument to a funct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function prototypes to validate your function ca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"/>
          <p:cNvGraphicFramePr/>
          <p:nvPr/>
        </p:nvGraphicFramePr>
        <p:xfrm>
          <a:off x="0" y="0"/>
          <a:ext cx="6856560" cy="5008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500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"/>
          <p:cNvSpPr/>
          <p:nvPr/>
        </p:nvSpPr>
        <p:spPr>
          <a:xfrm>
            <a:off x="7010280" y="91440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undraiser.cpp (2 of 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2438280" y="2438280"/>
            <a:ext cx="6400800" cy="609840"/>
            <a:chOff x="2438280" y="2438280"/>
            <a:chExt cx="6400800" cy="609840"/>
          </a:xfrm>
        </p:grpSpPr>
        <p:sp>
          <p:nvSpPr>
            <p:cNvPr id="145" name=""/>
            <p:cNvSpPr/>
            <p:nvPr/>
          </p:nvSpPr>
          <p:spPr>
            <a:xfrm>
              <a:off x="5638680" y="2438280"/>
              <a:ext cx="32004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finition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netDona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s the beginning of the variable’s scop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 flipV="1">
              <a:off x="2438280" y="2590920"/>
              <a:ext cx="32004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4419720" y="3352680"/>
            <a:ext cx="4267080" cy="733320"/>
            <a:chOff x="4419720" y="3352680"/>
            <a:chExt cx="4267080" cy="733320"/>
          </a:xfrm>
        </p:grpSpPr>
        <p:sp>
          <p:nvSpPr>
            <p:cNvPr id="148" name=""/>
            <p:cNvSpPr/>
            <p:nvPr/>
          </p:nvSpPr>
          <p:spPr>
            <a:xfrm>
              <a:off x="6095880" y="3505320"/>
              <a:ext cx="25909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isplay the donation amount after expenses are deducte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 flipV="1">
              <a:off x="4419720" y="3352680"/>
              <a:ext cx="16761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2437920" y="4038120"/>
            <a:ext cx="5868000" cy="642600"/>
            <a:chOff x="2437920" y="4038120"/>
            <a:chExt cx="5868000" cy="642600"/>
          </a:xfrm>
        </p:grpSpPr>
        <p:sp>
          <p:nvSpPr>
            <p:cNvPr id="151" name=""/>
            <p:cNvSpPr/>
            <p:nvPr/>
          </p:nvSpPr>
          <p:spPr>
            <a:xfrm>
              <a:off x="6248520" y="4343400"/>
              <a:ext cx="20574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pdate global variab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 flipV="1">
              <a:off x="2437920" y="4038120"/>
              <a:ext cx="3886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34" dur="1" fill="hold"/>
                                  <p:tgtEl>
                                    <p:spTgt spid="1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3" name=""/>
          <p:cNvGraphicFramePr/>
          <p:nvPr/>
        </p:nvGraphicFramePr>
        <p:xfrm>
          <a:off x="0" y="0"/>
          <a:ext cx="6856560" cy="5008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500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"/>
          <p:cNvSpPr/>
          <p:nvPr/>
        </p:nvSpPr>
        <p:spPr>
          <a:xfrm>
            <a:off x="7010280" y="91440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undraiser.cpp (3 of 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685440" y="1066680"/>
            <a:ext cx="7010640" cy="1114200"/>
            <a:chOff x="685440" y="1066680"/>
            <a:chExt cx="7010640" cy="1114200"/>
          </a:xfrm>
        </p:grpSpPr>
        <p:sp>
          <p:nvSpPr>
            <p:cNvPr id="157" name=""/>
            <p:cNvSpPr/>
            <p:nvPr/>
          </p:nvSpPr>
          <p:spPr>
            <a:xfrm>
              <a:off x="5486400" y="1600200"/>
              <a:ext cx="22096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ight brace end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netDona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’s scop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 flipV="1">
              <a:off x="685440" y="1066680"/>
              <a:ext cx="670572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456840" y="2286000"/>
            <a:ext cx="7467840" cy="961560"/>
            <a:chOff x="456840" y="2286000"/>
            <a:chExt cx="7467840" cy="961560"/>
          </a:xfrm>
        </p:grpSpPr>
        <p:sp>
          <p:nvSpPr>
            <p:cNvPr id="160" name=""/>
            <p:cNvSpPr/>
            <p:nvPr/>
          </p:nvSpPr>
          <p:spPr>
            <a:xfrm>
              <a:off x="5486400" y="2666880"/>
              <a:ext cx="24382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ight brace ends the scope of the local variabl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 flipV="1">
              <a:off x="456840" y="2286000"/>
              <a:ext cx="74674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3733920" y="3657600"/>
            <a:ext cx="4266720" cy="580680"/>
            <a:chOff x="3733920" y="3657600"/>
            <a:chExt cx="4266720" cy="580680"/>
          </a:xfrm>
        </p:grpSpPr>
        <p:sp>
          <p:nvSpPr>
            <p:cNvPr id="163" name=""/>
            <p:cNvSpPr/>
            <p:nvPr/>
          </p:nvSpPr>
          <p:spPr>
            <a:xfrm>
              <a:off x="5128560" y="3657600"/>
              <a:ext cx="28720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Value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donatedAmou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mplicitly converted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3733920" y="3886200"/>
              <a:ext cx="1394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53" dur="1" fill="hold"/>
                                  <p:tgtEl>
                                    <p:spTgt spid="1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1.3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Function Prototype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455840" y="2890800"/>
            <a:ext cx="6230880" cy="194328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412920" y="1461960"/>
            <a:ext cx="8325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1.15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empting to acces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’s local variabl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rossDona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when it is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f scop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4952520" y="4343040"/>
            <a:ext cx="3734280" cy="1510200"/>
            <a:chOff x="4952520" y="4343040"/>
            <a:chExt cx="3734280" cy="1510200"/>
          </a:xfrm>
        </p:grpSpPr>
        <p:sp>
          <p:nvSpPr>
            <p:cNvPr id="169" name=""/>
            <p:cNvSpPr/>
            <p:nvPr/>
          </p:nvSpPr>
          <p:spPr>
            <a:xfrm>
              <a:off x="5686560" y="5029200"/>
              <a:ext cx="30002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rying to access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grossDona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local variable, which is out of scop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 flipV="1">
              <a:off x="4952520" y="4343040"/>
              <a:ext cx="81468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62" dur="1" fill="hold"/>
                                  <p:tgtEl>
                                    <p:spTgt spid="1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1.3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Function Prototype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928880" y="3348000"/>
            <a:ext cx="5286240" cy="1028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412200" y="1461960"/>
            <a:ext cx="7953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1.1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empting to acces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’s local variabl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rossDona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auses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ilation erro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1.1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Test-Driv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Fundraiser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684360" y="1411200"/>
          <a:ext cx="7769160" cy="5172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411200"/>
                    <a:ext cx="7769160" cy="517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1.1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Test-Driv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Fundraiser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766880" y="3281400"/>
            <a:ext cx="5610240" cy="11620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11840" y="1447920"/>
            <a:ext cx="578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1.1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unning the completed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undrais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pplic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1.1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Test-Driv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Fundraiser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766880" y="3166920"/>
            <a:ext cx="5610240" cy="13906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13280" y="1447920"/>
            <a:ext cx="601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1.2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undrais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pplication with first donation enter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1.1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Test-Driv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Fundraiser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766880" y="2938320"/>
            <a:ext cx="5610240" cy="18478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12920" y="1447920"/>
            <a:ext cx="379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1.3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king further donatio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914400" y="4419360"/>
            <a:ext cx="1981080" cy="1190520"/>
            <a:chOff x="914400" y="4419360"/>
            <a:chExt cx="1981080" cy="1190520"/>
          </a:xfrm>
        </p:grpSpPr>
        <p:sp>
          <p:nvSpPr>
            <p:cNvPr id="59" name=""/>
            <p:cNvSpPr/>
            <p:nvPr/>
          </p:nvSpPr>
          <p:spPr>
            <a:xfrm>
              <a:off x="914400" y="5029200"/>
              <a:ext cx="19810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otal of all donations (minus expense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990720" y="4419360"/>
              <a:ext cx="91440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9" dur="1" fill="hold"/>
                                  <p:tgtEl>
                                    <p:spTgt spid="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1.2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onstruct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Fundraiser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684360" y="1411200"/>
          <a:ext cx="7769160" cy="5173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411200"/>
                    <a:ext cx="7769160" cy="517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1.2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onstruct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Fundraiser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pe is the portion of the application where a variable can be acces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variables have file sco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ile scope is from the variable declaration to the end of the fi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hould be avoided to prevent subtle logic errors or used as a consta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l variables have block sco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lock scope is from the variable declaration to the end of the block (the closing right brac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ocal variables hide any global variables with the same name while in sco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1.2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onstruct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Fundraiser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450800" y="2209680"/>
            <a:ext cx="6240600" cy="16671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408240" y="1447920"/>
            <a:ext cx="542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1.5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ing a global variable in the applic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380880" y="3143160"/>
            <a:ext cx="2362320" cy="1251720"/>
            <a:chOff x="380880" y="3143160"/>
            <a:chExt cx="2362320" cy="1251720"/>
          </a:xfrm>
        </p:grpSpPr>
        <p:sp>
          <p:nvSpPr>
            <p:cNvPr id="70" name=""/>
            <p:cNvSpPr/>
            <p:nvPr/>
          </p:nvSpPr>
          <p:spPr>
            <a:xfrm>
              <a:off x="380880" y="4057560"/>
              <a:ext cx="236232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fining a global variab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609480" y="3143160"/>
              <a:ext cx="160020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8" dur="1" fill="hold"/>
                                  <p:tgtEl>
                                    <p:spTgt spid="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3T17:49:30Z</dcterms:created>
  <dc:creator>Jeffrey Peng</dc:creator>
  <dc:description/>
  <dc:language>en-US</dc:language>
  <cp:lastModifiedBy>Pearson Education</cp:lastModifiedBy>
  <dcterms:modified xsi:type="dcterms:W3CDTF">2004-10-11T14:11:33Z</dcterms:modified>
  <cp:revision>46</cp:revision>
  <dc:subject/>
  <dc:title>Tutorial 11 – Fundraiser Application: Introducing Scope and Function Prototypes</dc:title>
</cp:coreProperties>
</file>